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56CD-E136-484C-B91E-A77E3182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B70D-E445-4D6F-B98A-23EA0AF6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3C51-9B00-4F20-994B-29D3AC3D8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260A-3CDB-4838-894E-44FFE48E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F304-93CA-4593-B724-314A7DD46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E2A3-1081-4D29-9C03-668638AC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6176-A019-452B-8D88-FCF64485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643E-5B00-4B64-8556-C9A69CDE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2C17-145B-41A9-B76D-0D93EBD4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B55B-6D9F-4A25-A90E-1DD428CE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ECAF-0DD7-4CD2-9DF9-E42DE592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B37D-75FF-4D95-AD43-D8259923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988A-3D6A-4D75-B4DC-B8C1F59F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F510-29E9-4C97-9790-3901CF59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5508-BD22-4889-B96F-6CC19E34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4FB6-61AC-4DF4-B4EA-96F68F9DE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744B-EAEA-4A85-A7F6-556A0AEDE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47D0-DF51-427F-9436-3FC93C83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3394-9AD3-4F3A-A410-C219E7FF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54C8-CFB2-4CC7-8E32-50153665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1A0C-9480-458B-B110-82EAA2B8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3E44-A692-477C-8033-1E016090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DB62-5E7A-4A0C-9DF7-D6A6DB0A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6F63-B289-406C-9860-3EF75A9F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C6C4-B941-4733-BA1A-53D336CBF2D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0408-E52F-4068-B17B-D5254C39BE8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626436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376360" y="1905120"/>
            <a:ext cx="44672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Castellar"/>
              </a:rPr>
              <a:t>MA VILL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391320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d6e0e0"/>
                </a:solidFill>
                <a:latin typeface="Arial Black"/>
              </a:rPr>
              <a:t>    </a:t>
            </a:r>
            <a:br>
              <a:rPr sz="1700"/>
            </a:br>
            <a:br>
              <a:rPr sz="1700"/>
            </a:br>
            <a:br>
              <a:rPr sz="1700"/>
            </a:br>
            <a:br>
              <a:rPr sz="2000"/>
            </a:br>
            <a:r>
              <a:rPr b="1" lang="es-ES" sz="2000" spc="-1" strike="noStrike">
                <a:solidFill>
                  <a:srgbClr val="336666"/>
                </a:solidFill>
                <a:latin typeface="Castellar"/>
              </a:rPr>
              <a:t>     </a:t>
            </a:r>
            <a:r>
              <a:rPr b="1" lang="es-ES" sz="2000" spc="-1" strike="noStrike">
                <a:solidFill>
                  <a:srgbClr val="336666"/>
                </a:solidFill>
                <a:latin typeface="Castellar"/>
              </a:rPr>
              <a:t>J’habite dans…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87280" y="3716280"/>
            <a:ext cx="6775560" cy="2606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059280" y="333360"/>
            <a:ext cx="46576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66"/>
                </a:solidFill>
                <a:latin typeface="Castellar"/>
              </a:rPr>
              <a:t>Ma rue</a:t>
            </a:r>
            <a:r>
              <a:rPr b="0" lang="es-ES" sz="3300" spc="-1" strike="noStrike">
                <a:solidFill>
                  <a:srgbClr val="336666"/>
                </a:solidFill>
                <a:latin typeface="Castellar"/>
              </a:rPr>
              <a:t> 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47640" y="1905120"/>
            <a:ext cx="1872000" cy="1942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686120" y="1904760"/>
            <a:ext cx="377172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’habite dans un imme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ns un appar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u troisième é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u centre 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à 5 minutes du centre 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6120" y="4000320"/>
            <a:ext cx="377172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ns une maison, en 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dehors de la 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à 5 km. de la 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59280" y="2637000"/>
            <a:ext cx="165708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187280" y="4000680"/>
            <a:ext cx="2953080" cy="1942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Très cher quartier"/>
          <p:cNvPicPr/>
          <p:nvPr/>
        </p:nvPicPr>
        <p:blipFill>
          <a:blip r:embed="rId3"/>
          <a:stretch/>
        </p:blipFill>
        <p:spPr>
          <a:xfrm>
            <a:off x="5580000" y="404640"/>
            <a:ext cx="90000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j-aime-mon-quartier" descr=""/>
          <p:cNvPicPr/>
          <p:nvPr/>
        </p:nvPicPr>
        <p:blipFill>
          <a:blip r:embed="rId1"/>
          <a:stretch/>
        </p:blipFill>
        <p:spPr>
          <a:xfrm>
            <a:off x="4932360" y="333360"/>
            <a:ext cx="1135080" cy="1143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66"/>
                </a:solidFill>
                <a:latin typeface="Castellar"/>
              </a:rPr>
              <a:t>Dans mon quartie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l y a </a:t>
            </a:r>
            <a:r>
              <a:rPr b="0" lang="es-ES" sz="1800" spc="-1" strike="noStrike">
                <a:solidFill>
                  <a:srgbClr val="cc0000"/>
                </a:solidFill>
                <a:latin typeface="Arial"/>
              </a:rPr>
              <a:t>d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mmerc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0000"/>
                </a:solidFill>
                <a:latin typeface="Arial"/>
              </a:rPr>
              <a:t>d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staurants, </a:t>
            </a:r>
            <a:r>
              <a:rPr b="0" lang="es-ES" sz="1800" spc="-1" strike="noStrike">
                <a:solidFill>
                  <a:srgbClr val="cc0000"/>
                </a:solidFill>
                <a:latin typeface="Arial"/>
              </a:rPr>
              <a:t>un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écol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n y trouve aussi </a:t>
            </a:r>
            <a:r>
              <a:rPr b="0" lang="es-ES" sz="1800" spc="-1" strike="noStrike">
                <a:solidFill>
                  <a:srgbClr val="cc0000"/>
                </a:solidFill>
                <a:latin typeface="Arial"/>
              </a:rPr>
              <a:t>u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gr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ga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l n’y a pas </a:t>
            </a:r>
            <a:r>
              <a:rPr b="0" lang="es-ES" sz="1800" spc="-1" strike="noStrike">
                <a:solidFill>
                  <a:srgbClr val="cc0000"/>
                </a:solidFill>
                <a:latin typeface="Arial"/>
              </a:rPr>
              <a:t>d’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ôpital d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n quarti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l n’y a pas </a:t>
            </a:r>
            <a:r>
              <a:rPr b="0" lang="es-ES" sz="1800" spc="-1" strike="noStrike">
                <a:solidFill>
                  <a:srgbClr val="cc0000"/>
                </a:solidFill>
                <a:latin typeface="Arial"/>
              </a:rPr>
              <a:t>de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néma d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n quarti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411280" y="404640"/>
            <a:ext cx="1905120" cy="1133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211640" y="2565360"/>
            <a:ext cx="33130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cc0000"/>
                </a:solidFill>
                <a:latin typeface="Arial Black"/>
              </a:rPr>
              <a:t>Exercice:</a:t>
            </a:r>
            <a:br>
              <a:rPr sz="2100"/>
            </a:br>
            <a:r>
              <a:rPr b="0" lang="es-ES" sz="1700" spc="-1" strike="noStrike">
                <a:solidFill>
                  <a:srgbClr val="cc0000"/>
                </a:solidFill>
                <a:latin typeface="Arial Black"/>
              </a:rPr>
              <a:t>Dis </a:t>
            </a:r>
            <a:r>
              <a:rPr b="0" lang="es-ES" sz="1700" spc="-1" strike="noStrike" u="sng">
                <a:solidFill>
                  <a:srgbClr val="cc0000"/>
                </a:solidFill>
                <a:uFillTx/>
                <a:latin typeface="Arial Black"/>
              </a:rPr>
              <a:t>ce qu’il y a</a:t>
            </a:r>
            <a:r>
              <a:rPr b="0" lang="es-ES" sz="1700" spc="-1" strike="noStrike">
                <a:solidFill>
                  <a:srgbClr val="cc0000"/>
                </a:solidFill>
                <a:latin typeface="Arial Black"/>
              </a:rPr>
              <a:t> et </a:t>
            </a:r>
            <a:r>
              <a:rPr b="0" lang="es-ES" sz="1700" spc="-1" strike="noStrike" u="sng">
                <a:solidFill>
                  <a:srgbClr val="cc0000"/>
                </a:solidFill>
                <a:uFillTx/>
                <a:latin typeface="Arial Black"/>
              </a:rPr>
              <a:t>ce qu’il n’y a pas</a:t>
            </a:r>
            <a:r>
              <a:rPr b="0" lang="es-ES" sz="1700" spc="-1" strike="noStrike">
                <a:solidFill>
                  <a:srgbClr val="cc0000"/>
                </a:solidFill>
                <a:latin typeface="Arial Black"/>
              </a:rPr>
              <a:t> dans ton quartier</a:t>
            </a:r>
            <a:endParaRPr b="0" lang="en-US" sz="1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6048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cc0000"/>
                </a:solidFill>
                <a:latin typeface="Arial Black"/>
              </a:rPr>
              <a:t>  </a:t>
            </a:r>
            <a:r>
              <a:rPr b="0" lang="es-ES" sz="1700" spc="-1" strike="noStrike">
                <a:solidFill>
                  <a:srgbClr val="cc0000"/>
                </a:solidFill>
                <a:latin typeface="Arial Black"/>
              </a:rPr>
              <a:t>Dis quels sont les sites les plus emblématiques de Paris</a:t>
            </a:r>
            <a:endParaRPr b="0" lang="en-US" sz="17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44680" y="3859200"/>
            <a:ext cx="2239920" cy="1949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81080" y="1904760"/>
            <a:ext cx="3776760" cy="19508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3860640"/>
            <a:ext cx="8229600" cy="25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0" lang="es-ES" sz="2800" spc="-1" strike="noStrike">
                <a:solidFill>
                  <a:srgbClr val="cc0000"/>
                </a:solidFill>
                <a:latin typeface="Arial"/>
              </a:rPr>
              <a:t>Et de ta vil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924360" y="1773360"/>
            <a:ext cx="2136600" cy="2136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940360" y="3933720"/>
            <a:ext cx="2210040" cy="2210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250920" y="1484280"/>
            <a:ext cx="223344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66"/>
                </a:solidFill>
                <a:latin typeface="Castellar"/>
              </a:rPr>
              <a:t>Ma ville est connue pour…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99cc00"/>
                </a:solidFill>
                <a:latin typeface="Arial"/>
              </a:rPr>
              <a:t>Son équipe de foot (hockey,basket…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6600"/>
                </a:solidFill>
                <a:latin typeface="Arial"/>
              </a:rPr>
              <a:t>Ses commerces, son quartier ancien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cc00"/>
                </a:solidFill>
                <a:latin typeface="Arial"/>
              </a:rPr>
              <a:t>Son musée de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cc0000"/>
                </a:solidFill>
                <a:latin typeface="Arial"/>
              </a:rPr>
              <a:t>Ses fêtes de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996633"/>
                </a:solidFill>
                <a:latin typeface="Arial"/>
              </a:rPr>
              <a:t>Ses festivals de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336666"/>
                </a:solidFill>
                <a:latin typeface="Arial"/>
              </a:rPr>
              <a:t>C’est la ville natale de.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3399"/>
                </a:solidFill>
                <a:latin typeface="Arial"/>
              </a:rPr>
              <a:t>Les produits typiques de ma ville sont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6264360" cy="1143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403280" y="1844640"/>
            <a:ext cx="6203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3T06:30:06Z</dcterms:created>
  <dc:creator>nombre</dc:creator>
  <dc:description/>
  <dc:language>en-US</dc:language>
  <cp:lastModifiedBy>nombre</cp:lastModifiedBy>
  <dcterms:modified xsi:type="dcterms:W3CDTF">2013-03-11T04:31:19Z</dcterms:modified>
  <cp:revision>4</cp:revision>
  <dc:subject/>
  <dc:title>J’habite dans…</dc:title>
</cp:coreProperties>
</file>